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1D8-235C-4BB9-ACDE-63A0495E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FC6-0E20-4D3B-A321-F12CC5E2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855-3874-4273-B32D-7C59CE88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AC4-5FA4-4608-9066-77976511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D0C4-C988-4EE6-9BA9-41AA82EF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7A7F-A43D-4314-A2AA-AD6C558E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8E88-BE47-4105-AB6C-801626D0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EDA-5F3F-459B-BE91-08025C86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2E8F-29CE-4875-8A43-136154A3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E5C-99FF-4E5D-A9F7-A91CC714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B5E2-F317-4B37-A362-2351B033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BFD9-BA68-481D-8762-DFD0194E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F7B40-3972-40CC-9EFA-ED40C072AC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 LEÃO E O RATI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60720" y="2700360"/>
            <a:ext cx="36003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000" y="16700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Um leão, cansado de ta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açar, dormia espichado debaix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a sombra de uma árvo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Nisso, vieram uns ratinh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assear em c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le, e ele acord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atinhos_dancando" descr=""/>
          <p:cNvPicPr/>
          <p:nvPr/>
        </p:nvPicPr>
        <p:blipFill>
          <a:blip r:embed=""/>
          <a:stretch/>
        </p:blipFill>
        <p:spPr>
          <a:xfrm>
            <a:off x="5580000" y="4859280"/>
            <a:ext cx="450072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547280"/>
            <a:ext cx="9070920" cy="543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ssustados, todos consegui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ugir, menos um, que o le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endeu debaixo da pa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as tanto o ratinho pediu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mplorou que o leão desisti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 esmagá-lo, deixando 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osse embo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199280" y="5040360"/>
            <a:ext cx="270036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191960"/>
            <a:ext cx="9070920" cy="61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lgum tempo depois, 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eão ficou preso na rede de 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açadores. Não conseguindo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soltar, fazia a floresta intei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tremer com seus urros 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raiv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í apareceu o ratinho, qu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om seus dentes afiado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roeu as cordas e soltou 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eã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00720" y="3780000"/>
            <a:ext cx="37800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0:41:21Z</dcterms:created>
  <dc:creator>Sala Professores</dc:creator>
  <dc:description/>
  <dc:language>en-US</dc:language>
  <cp:lastModifiedBy>Sala Professores</cp:lastModifiedBy>
  <dcterms:modified xsi:type="dcterms:W3CDTF">2010-12-14T11:47:22Z</dcterms:modified>
  <cp:revision>2</cp:revision>
  <dc:subject/>
  <dc:title/>
</cp:coreProperties>
</file>